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2BB4-09B7-45BE-BEE9-AE1C44B9B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CA42-BCE2-443B-A493-A1C1D9BE4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67B-0027-4F45-B0D3-AF9A9863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E99-3879-47D5-843C-AEA16F44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684-76DC-4134-B872-6DB47C73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6E3-5CBA-430D-BE03-ECF816DD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233D-077E-4722-8093-4E87DD10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7D1F-6D7B-4672-8C96-24D8DA7E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7BF0-1F41-40E0-B5C6-104B0EE2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5899-D1C1-4C02-833B-CE20804C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4BEB-F0BE-41DE-8576-ACC8039D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CEE2-10EC-4CD2-B02A-6C83FA06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342B-8384-4704-B5EC-9C1EB24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F45-F2BF-4F09-A2E0-1FFF6D4E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498B-B73A-488F-B2A5-4346FD73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BD5A-9036-4778-88CC-A9A5F0E3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905D-E3F9-4ECF-8C28-142FE762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9826-80FA-4A3B-8B99-6C330418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FE0E-8645-435E-B114-A0EA84CD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52E95-59F3-4EC0-96DB-674E7A10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6B1F9-9210-4E0E-BBA5-4BF7E950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C1DA2-FD2A-439B-91DD-B157D96D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5BE2-F708-41AF-BBFB-6E305911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7F06-8F57-4E9E-998C-84857497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F0A-45CD-413E-8588-27799C71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BD26-837D-44A8-8FEC-9F5D9475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DD6A-6BFF-4AD4-8C62-36C609BA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D270-CDE0-4737-8485-52FE68A4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54C11-94E5-4FBE-9BBA-8C7B7B98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2560-2943-45AA-981E-C7EA5025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DF677-8A45-46DA-8422-BAC7AEE3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2BB7-9F2D-4D48-BFAB-635F71ED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53FE9-9193-48BE-8449-C72063CE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5F3E2-3928-4937-8F11-B68D0E64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E1C9-EBFA-4750-BDA4-CD32F1EA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908-AF66-4950-87E5-C71263F1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387B-67D6-44D0-AEA9-E79989EC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C37F-4077-46F7-8D9F-AB3138C1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E5F42-DF84-4397-B2F3-4B651EF3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91BF1-AE86-4DD9-9053-495A5879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80411-058C-422B-996D-26E4AA73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617D3-2513-4810-84D6-F0B7C4D4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4C659-673E-4A2B-B933-3073508A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DCE6D-1D03-4F3C-B568-89492FCE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7FFC8-0C99-4950-935A-BC15AE57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11D6D-EDCE-4867-8850-787F55CF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C2C-C35D-4421-903B-6EA17007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75C74-8C9B-415C-875A-180C56F1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B4FE-F817-4E8D-9D52-153E9491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A25A-74CB-4A11-9551-686D920A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10991-ECED-4EB1-A4E8-64DBCA10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F3EFA-AC23-49ED-BDF0-4EE39667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D1D05-E64E-4B2F-BFCB-A9830496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CD762-8E93-4443-9165-E7782393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AB69C-C503-4687-B72F-506B0A6B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3685-3E21-4513-ABFD-55186B3B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9E1A9-F77B-4F2F-8291-D0AD42B8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606-34BE-4E39-B573-85A39B16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B6507-6436-4CDC-B599-3E5AD80C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3333-6405-4626-A4AF-85F13CD1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09081-7DE5-40CD-886C-2B5629C3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C337B-2EFC-4AD7-A6EC-1C231691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A664B-F525-4DA0-8513-EE969A31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FFB9E-ED76-4170-925D-E90AF46D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CE7CF-C86C-4807-9D9E-6BC2A5A4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C4475-1EBC-4281-BA36-27E29F7B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C6D7B-E9EC-4C5B-99E2-3BA07AD5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FFE15-5884-48E7-B84A-E252A3C2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78C-A3A0-4961-AD6F-DD1D56E3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4997C-F57C-4084-A7DE-0FE80247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FE864-858E-4940-A4C3-130CBD62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CF80A-954A-4A52-8DFD-4F50DF0F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38007-73A2-4A5D-966B-650603A5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35EDA-7169-4C74-83F9-524096A7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015EE-9C73-4331-81DC-FAA0F340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CE5F2-77BB-433A-91C8-E21E8CA7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D49F5-44D5-4EC2-B527-4C6F4C0B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1C005-EE82-4CA9-BAF9-91660C7C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F0B84-D907-4905-8E86-78913D95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AB6-5C52-4427-9DBF-8F80F600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8A641-224D-47DC-B87C-25530E48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E8981-8F7E-4350-9889-B61054C7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F0EF1-AD04-4078-BF2E-0F47C217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44C4A-C95C-4372-AAC1-51B228DC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4717-37F7-4A5B-B4D5-073AEFE3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3E3-2069-48A9-8AEE-BB016B3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C000-90E6-4003-82A3-C7B55E4DD223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19A5-8248-4E8B-A0CE-52E3D9F2D62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DA52-1681-40B4-873C-B5F3CD9F048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2431-6847-4918-A634-D0951B7575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1BBF-AAF5-45EC-ACD2-BBB72236748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3418-DAEC-4DD7-B9ED-FAC369D7AA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6CC4-70D3-475C-A936-E54CF9AAC0E0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772E-EE96-4EE4-9BDE-13855B15EA8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1763-96B8-4D2F-B851-1B407B0B266E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8FE6-55DF-4809-9B6D-FBD15314A2F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2B17-725E-4D75-A86C-D5B29F5A7AF3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C419-870C-49C2-9EAB-1979C401AB4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411A-63E8-4B8B-8EE7-8BF96FDCCFB9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40C0-140C-415D-AEEE-710EA6C2194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microsoft.com/interop/docs/OfficeBinaryFormats.mspx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blogs.technet.com/swi" TargetMode="External"/><Relationship Id="rId3" Type="http://schemas.openxmlformats.org/officeDocument/2006/relationships/hyperlink" Target="mailto:secure@microsof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33440" y="3024360"/>
            <a:ext cx="8339040" cy="21081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ruce Da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ure Windows Initiative (SWI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icrosof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Date Placeholder 5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5DCF-F8AA-4E4B-9EB5-776CEF6747C6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Footer Placeholder 7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86DD-9DB7-473F-90F1-B3FC502E616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0E52-C743-4BCD-A080-062B87596E8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D7B6-0261-4081-8D1F-C274766EE92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Picture 6" descr="atom.png"/>
          <p:cNvPicPr/>
          <p:nvPr/>
        </p:nvPicPr>
        <p:blipFill>
          <a:blip r:embed="rId2"/>
          <a:stretch/>
        </p:blipFill>
        <p:spPr>
          <a:xfrm>
            <a:off x="0" y="4495680"/>
            <a:ext cx="9144000" cy="7336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8"/>
          <p:cNvSpPr/>
          <p:nvPr/>
        </p:nvSpPr>
        <p:spPr>
          <a:xfrm>
            <a:off x="1676520" y="1676520"/>
            <a:ext cx="4038480" cy="2057400"/>
          </a:xfrm>
          <a:prstGeom prst="rect">
            <a:avLst/>
          </a:prstGeom>
          <a:solidFill>
            <a:srgbClr val="6bb76d"/>
          </a:solidFill>
          <a:ln w="47880">
            <a:solidFill>
              <a:srgbClr val="4d86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def struc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2 recVer:4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2 recInstance:12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2 recType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4 recLen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 PPTRHDR_t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Left Brace 11"/>
          <p:cNvSpPr/>
          <p:nvPr/>
        </p:nvSpPr>
        <p:spPr>
          <a:xfrm rot="5400000">
            <a:off x="3390840" y="571320"/>
            <a:ext cx="533520" cy="716256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7162560"/>
              <a:gd name="textAreaBottom" fmla="*/ 7148880 h 716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4"/>
                </a:cubicBezTo>
                <a:lnTo>
                  <a:pt x="10800" y="10666"/>
                </a:lnTo>
                <a:cubicBezTo>
                  <a:pt x="10800" y="10733"/>
                  <a:pt x="5400" y="10800"/>
                  <a:pt x="0" y="10800"/>
                </a:cubicBezTo>
                <a:cubicBezTo>
                  <a:pt x="5400" y="10800"/>
                  <a:pt x="10800" y="10867"/>
                  <a:pt x="10800" y="10934"/>
                </a:cubicBezTo>
                <a:lnTo>
                  <a:pt x="10800" y="21466"/>
                </a:lnTo>
                <a:cubicBezTo>
                  <a:pt x="10800" y="21533"/>
                  <a:pt x="16200" y="21600"/>
                  <a:pt x="21600" y="21600"/>
                </a:cubicBezTo>
              </a:path>
            </a:pathLst>
          </a:custGeom>
          <a:noFill/>
          <a:ln cap="rnd" w="255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64" name="Content Placeholder 6" descr="container.png"/>
          <p:cNvPicPr/>
          <p:nvPr/>
        </p:nvPicPr>
        <p:blipFill>
          <a:blip r:embed="rId2"/>
          <a:stretch/>
        </p:blipFill>
        <p:spPr>
          <a:xfrm>
            <a:off x="457200" y="1874880"/>
            <a:ext cx="8229600" cy="4425840"/>
          </a:xfrm>
          <a:prstGeom prst="rect">
            <a:avLst/>
          </a:prstGeom>
          <a:ln w="0">
            <a:noFill/>
          </a:ln>
        </p:spPr>
      </p:pic>
      <p:sp>
        <p:nvSpPr>
          <p:cNvPr id="36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AE6C-0E7E-4B69-A978-B7022B80291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E527-3ED6-4CB0-BC74-B671D18079D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EE2B-5815-4704-9330-193455DDA20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DB8D-E522-41E2-8430-99E8995AA4B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Picture 8" descr="example.jpg"/>
          <p:cNvPicPr/>
          <p:nvPr/>
        </p:nvPicPr>
        <p:blipFill>
          <a:blip r:embed="rId2"/>
          <a:stretch/>
        </p:blipFill>
        <p:spPr>
          <a:xfrm>
            <a:off x="533520" y="1295280"/>
            <a:ext cx="2438280" cy="52898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4800600"/>
          </a:xfrm>
          <a:prstGeom prst="rect">
            <a:avLst/>
          </a:prstGeom>
          <a:ln w="0">
            <a:noFill/>
          </a:ln>
        </p:spPr>
      </p:pic>
      <p:cxnSp>
        <p:nvCxnSpPr>
          <p:cNvPr id="374" name="Elbow Connector 11"/>
          <p:cNvCxnSpPr/>
          <p:nvPr/>
        </p:nvCxnSpPr>
        <p:spPr>
          <a:xfrm>
            <a:off x="2971440" y="1676520"/>
            <a:ext cx="2896200" cy="30528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75" name="Elbow Connector 13"/>
          <p:cNvCxnSpPr/>
          <p:nvPr/>
        </p:nvCxnSpPr>
        <p:spPr>
          <a:xfrm>
            <a:off x="2743200" y="1828440"/>
            <a:ext cx="2820240" cy="686520"/>
          </a:xfrm>
          <a:prstGeom prst="bentConnector3">
            <a:avLst>
              <a:gd name="adj1" fmla="val 49993"/>
            </a:avLst>
          </a:prstGeom>
          <a:ln cap="rnd" w="3816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76" name="Elbow Connector 15"/>
          <p:cNvCxnSpPr/>
          <p:nvPr/>
        </p:nvCxnSpPr>
        <p:spPr>
          <a:xfrm>
            <a:off x="2514600" y="2285640"/>
            <a:ext cx="2743920" cy="1220040"/>
          </a:xfrm>
          <a:prstGeom prst="bentConnector3">
            <a:avLst>
              <a:gd name="adj1" fmla="val 49993"/>
            </a:avLst>
          </a:prstGeom>
          <a:ln cap="rnd" w="3816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77" name="Elbow Connector 17"/>
          <p:cNvCxnSpPr/>
          <p:nvPr/>
        </p:nvCxnSpPr>
        <p:spPr>
          <a:xfrm>
            <a:off x="2742840" y="4724280"/>
            <a:ext cx="2591640" cy="15336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78" name="Elbow Connector 19"/>
          <p:cNvCxnSpPr/>
          <p:nvPr/>
        </p:nvCxnSpPr>
        <p:spPr>
          <a:xfrm>
            <a:off x="2742840" y="5333760"/>
            <a:ext cx="2515320" cy="22932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79" name="Elbow Connector 21"/>
          <p:cNvCxnSpPr/>
          <p:nvPr/>
        </p:nvCxnSpPr>
        <p:spPr>
          <a:xfrm>
            <a:off x="2743200" y="6019560"/>
            <a:ext cx="2210400" cy="76680"/>
          </a:xfrm>
          <a:prstGeom prst="bentConnector3">
            <a:avLst>
              <a:gd name="adj1" fmla="val 49991"/>
            </a:avLst>
          </a:prstGeom>
          <a:ln cap="rnd" w="38160">
            <a:solidFill>
              <a:srgbClr val="f0ac00"/>
            </a:solidFill>
            <a:miter/>
            <a:tailEnd len="med" type="arrow" w="med"/>
          </a:ln>
        </p:spPr>
      </p:cxnSp>
      <p:sp>
        <p:nvSpPr>
          <p:cNvPr id="380" name="TextBox 22"/>
          <p:cNvSpPr/>
          <p:nvPr/>
        </p:nvSpPr>
        <p:spPr>
          <a:xfrm>
            <a:off x="5791320" y="18288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*Data from the stream*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TextBox 24"/>
          <p:cNvSpPr/>
          <p:nvPr/>
        </p:nvSpPr>
        <p:spPr>
          <a:xfrm>
            <a:off x="5638680" y="2362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Document contain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TextBox 25"/>
          <p:cNvSpPr/>
          <p:nvPr/>
        </p:nvSpPr>
        <p:spPr>
          <a:xfrm>
            <a:off x="5334120" y="3352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Document ato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TextBox 26"/>
          <p:cNvSpPr/>
          <p:nvPr/>
        </p:nvSpPr>
        <p:spPr>
          <a:xfrm>
            <a:off x="5410080" y="4724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lide contain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TextBox 27"/>
          <p:cNvSpPr/>
          <p:nvPr/>
        </p:nvSpPr>
        <p:spPr>
          <a:xfrm>
            <a:off x="533412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lide contain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28"/>
          <p:cNvSpPr/>
          <p:nvPr/>
        </p:nvSpPr>
        <p:spPr>
          <a:xfrm>
            <a:off x="5029200" y="5867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erEditAtom atom (usually last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29"/>
          <p:cNvSpPr/>
          <p:nvPr/>
        </p:nvSpPr>
        <p:spPr>
          <a:xfrm>
            <a:off x="5181480" y="4191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1 slide container per slid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87" name="Elbow Connector 31"/>
          <p:cNvCxnSpPr/>
          <p:nvPr/>
        </p:nvCxnSpPr>
        <p:spPr>
          <a:xfrm>
            <a:off x="2514240" y="2742840"/>
            <a:ext cx="1981800" cy="114372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f0ac00"/>
            </a:solidFill>
            <a:miter/>
            <a:tailEnd len="med" type="arrow" w="med"/>
          </a:ln>
        </p:spPr>
      </p:cxnSp>
      <p:sp>
        <p:nvSpPr>
          <p:cNvPr id="388" name="TextBox 32"/>
          <p:cNvSpPr/>
          <p:nvPr/>
        </p:nvSpPr>
        <p:spPr>
          <a:xfrm>
            <a:off x="4419720" y="3733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nvironment contain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ata is stored inside the “Workbook” strea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containers/atoms.  Just plain BIFF record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IFF records also follow TLV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cord data has an upper bound of ~ 2000-8000 bytes (BIFF version dependent).  If longer, use a CONTINUE recor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ata inside the “Workbook” stream is organized like: BOF &lt;data&gt; EOF BOF &lt;data&gt; EOF BOF &lt;data&gt; EOF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BFBD-6D07-45B8-B8BE-766F08D9C6F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64A3-0CA6-420E-99EB-F2A0AC27F0C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thing out of the ordinary: integer over/underflow, off-by-one, double free, uninitialized variables, bad pointer reuse, stack/heap overflow,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6D07-AD26-4D7F-BB8B-1C284DC2F44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A198-5C55-4EF2-914C-397D6C916A5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sp>
        <p:nvSpPr>
          <p:cNvPr id="40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739F-CAD4-4F32-B1F7-760C75C6135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B3BA-F416-4DBF-A546-79F1ABA7308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MOI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requires Office 2003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only works on OLE structured storage fi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uses the Office 2007 compatibility pac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converts your binary file format to the new XML format and opens it u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BDFC-5322-4D8F-974B-3BCD43BFCB7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1A69-F566-4E38-B59A-F6753DD1B16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fice 2003 SP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ult of a major security / SDL pu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you had Office 2003 SP3, then you would not be affected by any of the Office zero-days acknowledged in the public si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you have Office 2003, install SP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26A2-FDF7-4E49-9060-79C4860B8A4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6D1A-2761-4B14-AD4F-71A3D85092C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fice 2003 SP3 and MOICE actually eliminates / mitigates most of the Office vulns (probably 99% of them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ways have the latest patch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410A-B039-4763-97A2-E063E0E5F44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7EA0-40C3-483E-8E04-16971A3567B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Office 200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3E8E-C35B-42F4-8140-76ED3389D88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F9E4-1A81-46F1-8DD1-BDBD9F867D7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fice binary file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ensive mechanis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loit structu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alysis techniqu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tection mechanis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6BF0-05F7-4FD3-B05B-772C48C431A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Footer Placeholder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7439-9405-42A5-BB9C-F6D157C0E4E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t out of the ordina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asic struct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ellco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lw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ean docu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chniqu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2D56-DB55-48E1-8233-73D33A75082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9141-7824-475E-9BD2-ACAAB05266D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EC37-5E4D-43E9-BAB6-5BB337EF1BB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F5E3-B816-45CE-B5F8-A115BFBD202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verything is included 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docu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re can be vari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ultiple shellcode stag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ultiple troja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bfuscation of trojans/do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ery rarely uses URLM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outin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4" name="Picture 11" descr="structure.jpg"/>
          <p:cNvPicPr/>
          <p:nvPr/>
        </p:nvPicPr>
        <p:blipFill>
          <a:blip r:embed="rId2"/>
          <a:stretch/>
        </p:blipFill>
        <p:spPr>
          <a:xfrm>
            <a:off x="5715000" y="609480"/>
            <a:ext cx="324648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chniqu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ndard GetEIP / PI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ustom encode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B retriev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le handle brutefor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pplication relaun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E6F3-40FD-4B72-A05E-762FDDF26BD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11D5-4B72-4FC7-978F-003A4A5A47C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y file handle bruteforc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ploit must find itself in memory (this is not the same as GetEIP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ploit cannot simply scan the entire process address space looking for itself (speed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ery easy/short implementation in assembly. It’s literally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h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fh=0; fh &lt; 65536; fh += 4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GetFileSize(fh, NULL) == mysize) return fh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CAC2-314E-4665-A4CD-D77C88F7512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86E4-E994-401B-B17D-E4C6656D748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hat it does (there can be variations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hellcode decodes itself and ru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uilds up a list of function pointer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nds itself in memory (file handle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ad data from specific locations in the fil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tract the trojan and the clean documen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un the trojan and relaunch the app to open the new fil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it the current proces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tFilePointer, ReadFile, WriteFile, CloseFile, WinExec, ExitProces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9431-5BCB-4BE6-83B5-254EC05CFEA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8EE5-2B1F-404B-815A-881427E755A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xedi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sassembl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ptional: Debugger (WinDBG is sufficient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dentify the shellco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nderstand 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tract the malicious compon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[Identify the exact vuln]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16B5-8254-4821-8841-9414574F971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91F4-EBD3-4BC2-8191-0D0B2191BBF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many do you recogniz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B 10 5B 4B 33 C9 66 B9 96 03 80 34 0B FD E2 FA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EB 05 E8 EB FF FF FF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4 A1 30 00 00 0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4 8B 1D 30 00 00 0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9 74 24 F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8865-2EF9-4B7A-A3C1-9A980D6EC00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A28C-637D-4A48-B163-9A7868D7F9E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bug DOC/XLS/PP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tic metho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code the shellcode and read 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ynamic metho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bit more interest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5BB2-761B-40CD-B9D7-50B9B7735CC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B63C-C7D3-4B0D-89F1-F9B639560FB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thod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dentify the shellcode, patch the first few byt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xC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rt up Office, attach WinDBG to it and ‘g’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pen up the docu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you did it right, you should hi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3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then single step as needed.  If not then you probably got infec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4A82-0440-434E-ADE3-73FA02D5604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3D12-2AEC-4D4B-BC8D-735B993EB90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thod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ick an any execut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py the shellcode and put it in the binary and set eip the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ngle step just like any an execut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5F1B-E158-486B-A514-85CB1C303ED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5A7E-6A5D-4F2E-BBA7-10A39DA62C4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argeted attack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ery popular in the last couple yea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passes perimeter security devices/softw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st antivirus engines can’t detect 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 technical information in the publi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63F4-804C-4BD4-819B-4CBDE53DBC5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AA25-7E55-4E0E-998D-0E09A57EEFC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thod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ave the file, i.e.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“c:\temp\sc.bin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pen up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Courier New"/>
              </a:rPr>
              <a:t>notepad.exe, calc.ex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whatev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ttach WinDBG to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Courier New"/>
              </a:rPr>
              <a:t>.dvalloc &lt;size of sc.bin&gt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Courier New"/>
              </a:rPr>
              <a:t>.readmem c:\temp\sc.bin addr &lt;size of sc.bin&gt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Courier New"/>
              </a:rPr>
              <a:t>Real shellcode address = &lt;addr + sc offset&gt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Courier New"/>
              </a:rPr>
              <a:t>r eip=&lt;addr + sc offset&gt;;t (not ‘g’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4340-5ACC-4BD1-BD2B-D4F2AB3D800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25E9-5B31-4DF4-A7DC-329398AE0FB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EDFF-D1A2-4D55-9459-B4819633D51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8E5E-05E6-4716-A224-E28A29FC020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876312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thod 4 (best on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ave the file as “c:\temp\sc.bin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Open the file in an editor (notepad, vim, …); anything that opens the fi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ttach WinDBG to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dvalloc &lt;size of sc.bin&gt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readmem c:\temp\sc.bin addr &lt;size of sc.bin&gt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al shellcode address = &lt;addr + sc offset&gt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 eip=&lt;addr + sc offset&gt;;t (not ‘g’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526A-6359-4AB4-820A-DE1230C2FA7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2B25-C966-4A08-825A-F424BB8A954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need to be able to fingerprint an OLE structure storage fi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0 CF 11 E0 A1 B1 1A E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Courier New"/>
              </a:rPr>
              <a:t>Get the stream name to determine the file type (DOC, PPT, XL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Courier New"/>
              </a:rPr>
              <a:t>Read the stream content and parse it as we showed earli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Courier New"/>
              </a:rPr>
              <a:t>Determine what records are affected and detect th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378C-E62D-4ED2-BCC2-B7277D10E51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3211-D2A5-45F4-99EF-8FF23833589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released the file format specifications for DOC, XLS, PPT, and MS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microsoft.com/interop/docs/OfficeBinaryFormats.mspx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ven the information here and those specifications, you can actually write code to parse and check the validity of the recor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re information will come soon at BlackHat Vegas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7E99-A6ED-4412-A979-C9B473124A6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3709-5FBE-40BD-80F2-07CC2A9275C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y team’s SWI blog: </a:t>
            </a: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blogs.technet.com/sw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 talk about vulnerability details the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is written by people who triage the vulnera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re info? Suggestion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t a bug to report? </a:t>
            </a: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3"/>
              </a:rPr>
              <a:t>secure@microsoft.co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y email: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bda@microsoft.co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01AC-7ECB-46D0-A4B3-EE222C30CFB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BBBC-599A-4017-949F-2680AC0C8F5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ructured Storage / OLE 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le system inside a binary fi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vide data into storage and streams (storage = directory, stream = file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2-page specific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pplication-specific data stored inside storage/stream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n be frustrating to parse manual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D5E8-8A70-42A7-8169-732247834DF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DBFD-3857-4F50-96FB-68BE02AA3B7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gOpenStorage() on the file.  You get back an IStorage objec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torage-&gt;EnumElements() enumerates all of the storages and stream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torage-&gt;OpenStream() opens up whatever stream you want.  Returns an IStream objec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tream-&gt;Stat() tells you the stream siz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tream-&gt;Read() reads n bytes from the strea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794A-3269-44C1-88F9-5B47844A252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D0CD-D0FC-4C42-9309-D656AEF15C1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RESULT hr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torage *is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tream *stream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EnumSTATSTG *penum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STG statstg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gOpenStorage(L“foo.ppt", NULL, STGM_DIRECT | STGM_READ | STGM_SHARE_EXCLUSIVE, NULL, 0, &amp;is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-&gt;EnumElements(NULL, NULL, NULL, &amp;penum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r = penum-&gt;Next(1, &amp;statstg, 0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 hr == S_OK) {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printf(L"name = %s\tsize = 0x%08x\n”, statstg.pwcsName, statstg.cbSize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-&gt;OpenStream(statstg.pwcsName, NULL, STGM_READ | STGM_SHARE_EXCLUSIVE, 0, &amp;stream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am-&gt;Read(data, statstg.cbSize, NULL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arse data ..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B202-7419-4CE9-B429-542645B1800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E204-7679-4FBF-8D1F-D6DF525AF87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bit simpler.  Good for experime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pythoncom import *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store = StgOpenStorage(sys.argv[1], None, 0x10, None, 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stat = ostore.EnumElements(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 = estat.Next(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str != ()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tr[0][0] == "PowerPoint Document"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n = str[0][2]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 = estat.Next(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= ostore.OpenStream("PowerPoint Document", None, 0x10, 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= ostream.Read(len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parse data..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4771-AA03-42B0-9CA1-AB8F3F2FF7E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DB23-D568-467C-87A3-158A9990EE3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ores data in the “PowerPoint Document” stream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penStream(L“PowerPoint Document”, ...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wo types of PowerPoint data structu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tainer – a “directory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ntains other container or atom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tom – a “file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cords follow TLV sty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SO objects follow the same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D58E-5CD9-4B7B-89CF-8D81E9AC2DA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C7D0-DE2F-4A3A-827E-74210243B2D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 struct to rule them al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truc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int2 recVer:4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int2 recInstance:12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int2 recType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int4 recLen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PPTRHDR_t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recVer = 0xF, then the record is a container; else, it is an at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cType refers to the record type.  There are ~ 100 of these in PowerPoint.  You can look them up the file format specifica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BAA8-DC7F-4F2A-8B7E-C7BC587EE25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Bruce Dang | BDA@microsoft.com | Secure Windows Initiative | Microsof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1928-1D4E-48B9-B6CA-2FDF5EE6A67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31:57Z</dcterms:created>
  <dc:creator>bruce</dc:creator>
  <dc:description/>
  <dc:language>en-US</dc:language>
  <cp:lastModifiedBy>bruce</cp:lastModifiedBy>
  <dcterms:modified xsi:type="dcterms:W3CDTF">2008-06-16T23:48:50Z</dcterms:modified>
  <cp:revision>69</cp:revision>
  <dc:subject/>
  <dc:title>Methods for Understanding and Analyzing Targeted Attacks with Office Documents</dc:title>
</cp:coreProperties>
</file>